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2950AA7-196C-44A0-BE09-42276FFF999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off device, save (co)processor regs, snapshot, restore regs, poweron device, write t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ig, alloc mem, read image, freeze process, free mem, suspend dev, poweroff dev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processor regs, realloc image to orig addr, restore regs, poweron dev, resume dev, free m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w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962-CF07-425E-ADA8-9B0C2D24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6E9-743B-4F8F-A5FF-B80C5CDD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61-7934-43B7-B88E-0172D971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F68-992E-4350-A492-7319826A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78D-7405-4BE1-824B-13F332B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0CB-1530-44B9-8765-A96FC2B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31A-65E5-4B2D-A556-05FB730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705-E938-486B-86DB-E5EDB79F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118-1FBC-451C-9CDF-AE800A9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8A4-6D87-495C-8FAB-B473D282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D94-D1F9-486F-9AE2-AECD9CE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1A4-550A-4605-83D0-2F6BE1C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7CC-F4C1-4338-9DCF-4951B343AA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</a:t>
            </a: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rtup time using Software Susp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F29-D0FB-4B0E-AD9C-A2C6E94171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operate kernel side suspend/resu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boot loader side init set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napshot image created by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t loader do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up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snapshot image to origin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and do setups for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to resume entry p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normal entry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071-EE1D-4E5A-BA66-4198774EEF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160" y="1916280"/>
            <a:ext cx="138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1773360"/>
            <a:ext cx="1081080" cy="100800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3" y="0"/>
                </a:lnTo>
                <a:lnTo>
                  <a:pt x="21600" y="10800"/>
                </a:lnTo>
                <a:lnTo>
                  <a:pt x="172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1773360"/>
            <a:ext cx="1295640" cy="1008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4" y="0"/>
                </a:lnTo>
                <a:lnTo>
                  <a:pt x="21600" y="10800"/>
                </a:lnTo>
                <a:lnTo>
                  <a:pt x="18344" y="21600"/>
                </a:lnTo>
                <a:lnTo>
                  <a:pt x="0" y="21600"/>
                </a:lnTo>
                <a:lnTo>
                  <a:pt x="3256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76544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7560" y="522936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938160" cy="1008000"/>
          </a:xfrm>
          <a:custGeom>
            <a:avLst/>
            <a:gdLst>
              <a:gd name="textAreaLeft" fmla="*/ 0 w 938160"/>
              <a:gd name="textAreaRight" fmla="*/ 938520 w 938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6" y="0"/>
                </a:lnTo>
                <a:lnTo>
                  <a:pt x="21600" y="10800"/>
                </a:lnTo>
                <a:lnTo>
                  <a:pt x="16776" y="21600"/>
                </a:lnTo>
                <a:lnTo>
                  <a:pt x="0" y="21600"/>
                </a:lnTo>
                <a:lnTo>
                  <a:pt x="482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1773360"/>
            <a:ext cx="2089080" cy="10080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47" y="0"/>
                </a:lnTo>
                <a:lnTo>
                  <a:pt x="21600" y="10800"/>
                </a:lnTo>
                <a:lnTo>
                  <a:pt x="19647" y="21600"/>
                </a:lnTo>
                <a:lnTo>
                  <a:pt x="0" y="21600"/>
                </a:lnTo>
                <a:lnTo>
                  <a:pt x="1953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" y="39337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0" y="0"/>
                </a:lnTo>
                <a:lnTo>
                  <a:pt x="21600" y="10800"/>
                </a:lnTo>
                <a:lnTo>
                  <a:pt x="16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3716280"/>
            <a:ext cx="1729080" cy="1008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0" y="0"/>
                </a:lnTo>
                <a:lnTo>
                  <a:pt x="21600" y="10800"/>
                </a:lnTo>
                <a:lnTo>
                  <a:pt x="19160" y="21600"/>
                </a:lnTo>
                <a:lnTo>
                  <a:pt x="0" y="21600"/>
                </a:lnTo>
                <a:lnTo>
                  <a:pt x="244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108-0B7B-4B15-AF82-7A41876B0A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boot 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in u-boot boot lo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s &lt;image addr&gt; &lt;resume entry poi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snapshot image in flash to 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and set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clock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various MMIO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 to resume entry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A0B-E15C-4AD1-8261-ABBB3D65BD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[[demo of swsusp and snapshot boot]]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1D7-919C-4AC5-8B6C-4FF511FA29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/power/swsusp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sourceforge.net/projects/u-boo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uspend2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025-DBE3-44E4-9182-6F2A8274F5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006-C7D2-476C-BCF9-F55E4DB2089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functionality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swsusp for snapshot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C57-61CB-440C-93FA-89EF20783B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startup time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image of known system stat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ry to accomplish kernel, module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tartup tim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a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system image as a file, we can tra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development progress and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1E1-0F9A-4B96-BABF-ED993626C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enviri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OSK 5912 starter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kernel 2.6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p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swsusp support pat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veloped and posted to 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osk.jpg"/>
          <p:cNvPicPr/>
          <p:nvPr/>
        </p:nvPicPr>
        <p:blipFill>
          <a:blip r:embed="rId2"/>
          <a:stretch/>
        </p:blipFill>
        <p:spPr>
          <a:xfrm>
            <a:off x="6012000" y="333360"/>
            <a:ext cx="2693880" cy="2023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88000" y="2505240"/>
            <a:ext cx="39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4AC-6629-4452-B90D-2A0A89FBDA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tates supported by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b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power savings, low latency to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 Cpu retains power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power savings, system in low-pow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in self refresh mod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st power savings, similar to suspend to ra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 contents written to disk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PI 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612-EB8C-47DB-BC6E-655163B825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is suspend to dis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r suspend to swap, `sw` stands for sw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image to nor flash instead of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esume, read from nor flash instead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3AE-E724-4B3E-82BB-F9D6295500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low of swsusp (suspend ph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z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unnecessary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napshot image (in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snapshot image to sw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down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85040" y="5780160"/>
            <a:ext cx="51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swsusp needs half of tot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372-BA88-4412-B278-734AE561F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4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low of swsusp (resu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begin at `late_initcall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mage from swap to 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z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snapsho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m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w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10F-6431-4703-9F95-E9C2442DC1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susp (5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resume take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susp procedure is kicked at late_init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before init process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I/O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to mem (allocated m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 to mem (allocated mem to orig mem ad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t device state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gets setup, suspend, and resu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776-2324-4260-A90F-00D5D61937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MAR/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6-03-27T12:29:46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